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EDA-91E8-456A-816F-6A7AE2C0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D9F-F32E-4573-B063-694200A0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951-9145-4C86-8D1E-99102B51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043-AE96-4B35-A113-2311A6A7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0994-16DA-4DF2-A833-752BEC29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C377-2FB3-4491-A424-48CEE893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D25-BE23-4897-9CFB-1B62E8E6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0026-4E44-458E-BD10-B127E6F5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DA9C-6AD9-4613-AD79-8C0CAEBC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E7BA-E2B6-4D5C-BD27-98095EEC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CF40-39C0-4511-A3B3-EBCA89E2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E88-5857-4172-B770-5050ABD6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5209-2241-4DA0-85B6-6E0A67B1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CD5B-073A-4FE2-9C9D-3C155D3B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2937-BE1B-4E8C-B631-E5065D49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3DB2-8540-4071-918E-EFF861B3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9346-4E7A-400A-93CA-1EA3FF5C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697-5ADE-4BA5-B294-2B79CF0E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276-6719-4DE7-A517-96A8F688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06A-2956-489E-B0F5-2871BFA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0EE-7086-4523-8375-8A02D1A1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F65-15A4-4BF1-98C4-27D10658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8CA-6F90-44DD-83F7-066B7B3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CEE-A628-4006-A116-F70FC61F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E4F2-D727-444A-875F-24508038ED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45C1-650D-4B6A-B029-FEF4565921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219320" y="533520"/>
            <a:ext cx="8523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The Thought-Filled Curriculum</a:t>
            </a:r>
            <a:br>
              <a:rPr sz="38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rthur L. Costa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813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the Artic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need to learn how to thin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lurt out answers before they thin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end on teachers for answ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 up easily when things are “too hard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uggle to work well togeth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uggle to apply knowledge to new situa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afraid to take risk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Learning to Th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with the capacity and incl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taught to be applied, generated, focused, complex, div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learning the constructs of a poem, students select a poem and analyze mea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467480" y="2666880"/>
            <a:ext cx="15210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Thinking to Le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construction by creating models and metaphors from person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searching the functions of cell parts, students create analogies to help them remember each function. (ex: cell as a school, cell as a factory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Thinking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recipr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activ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 own and shared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ine interconnectedness and coherence of divergent 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a new style of group activity, teacher should model the desired group interaction and group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) Thinking About Our Own Thi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“being that knows its know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60156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should consistently model thought process by “thinking aloud.”  After poetry and cell assignments, students should share their thought processes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125748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Five Themes of Thinking Skillfull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) Thinking B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6412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n interdependent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59544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re for one an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59544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arn toge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595440">
              <a:lnSpc>
                <a:spcPct val="90000"/>
              </a:lnSpc>
              <a:spcBef>
                <a:spcPts val="624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w toward greater intellig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y classroom activity, students shou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the world.  Ex: cells ma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all living things; the thematic element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flect the huma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2590920"/>
            <a:ext cx="20574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1:09:52Z</dcterms:created>
  <dc:creator> Heather Lijoi</dc:creator>
  <dc:description/>
  <dc:language>en-US</dc:language>
  <cp:lastModifiedBy>North Rockland High School</cp:lastModifiedBy>
  <dcterms:modified xsi:type="dcterms:W3CDTF">2008-06-04T18:59:51Z</dcterms:modified>
  <cp:revision>46</cp:revision>
  <dc:subject/>
  <dc:title>The Thought-Filled Curriculum Arthur L. Costa </dc:title>
</cp:coreProperties>
</file>